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4A0-DB60-44A5-8798-7A31FCA3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C2B-9C53-4D55-AE7C-EFC3010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9BC-E876-46D2-AB63-31410755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9C9-5159-430F-B1CD-34BC6DEA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8A3-249C-4679-8C0D-D4E68FD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54C1-E365-4DB5-8817-0AC1A27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713B-DF18-475F-B089-A0CEA79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41C-2D75-4BC7-9286-312B1BF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9AC7-6314-4B4C-9779-076255B6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51E-8B87-4498-B704-870ECD3B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2F0-C4DD-443A-ABAE-CB60345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157-6C5D-4E9E-AE33-976018A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7381-4EAC-4133-ADA5-E26CEA7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F1D1-CD22-4961-A612-5825D4E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2361-DEC7-40CB-B972-2C3D2CEF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B31C-DD64-4B36-B2E3-576A6F82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6E1A-5723-4F6E-BE6A-237F0A98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1CC-0688-4B79-9721-BB74E2D4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284-CA7B-4483-BFFD-324227E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100-73FE-442E-B550-31820E8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304-2326-4877-88D0-3977CB9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97C-3517-47B9-A93C-1F1ED28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055-532F-49BD-84BC-D31BE99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AAD-4A25-4ED3-BF28-D903EC4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A74-32E7-4B8B-A6B4-0CE9DB7103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CB4-7E0D-4BA3-8E14-FD0BC7F51B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13.3:  The Holocau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stematic murder of 11 million people across Europe, more than half of whom were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Holocaust Victims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1939-1945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762120" y="1395360"/>
          <a:ext cx="8001000" cy="53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5360"/>
                    <a:ext cx="800100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E.  Concentration Camp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Camps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s”; 6,000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ing of bodies problemati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mator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Image:WW2-Holocaust-Europe.png"/>
          <p:cNvPicPr/>
          <p:nvPr/>
        </p:nvPicPr>
        <p:blipFill>
          <a:blip r:embed="rId1"/>
          <a:stretch/>
        </p:blipFill>
        <p:spPr>
          <a:xfrm>
            <a:off x="452520" y="0"/>
            <a:ext cx="82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To the right, slave labor</a:t>
            </a:r>
            <a:br>
              <a:rPr sz="3200"/>
            </a:b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To the left, gas chamber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3" name="Picture 4" descr="Selection_Birkenau_ramp"/>
          <p:cNvPicPr/>
          <p:nvPr/>
        </p:nvPicPr>
        <p:blipFill>
          <a:blip r:embed="rId1"/>
          <a:stretch/>
        </p:blipFill>
        <p:spPr>
          <a:xfrm>
            <a:off x="609480" y="1371600"/>
            <a:ext cx="6934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ww2-177"/>
          <p:cNvPicPr/>
          <p:nvPr/>
        </p:nvPicPr>
        <p:blipFill>
          <a:blip r:embed="rId1"/>
          <a:stretch/>
        </p:blipFill>
        <p:spPr>
          <a:xfrm>
            <a:off x="2138400" y="63360"/>
            <a:ext cx="4869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w2-178"/>
          <p:cNvPicPr/>
          <p:nvPr/>
        </p:nvPicPr>
        <p:blipFill>
          <a:blip r:embed="rId1"/>
          <a:stretch/>
        </p:blipFill>
        <p:spPr>
          <a:xfrm>
            <a:off x="371520" y="9360"/>
            <a:ext cx="846756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ww2-179"/>
          <p:cNvPicPr/>
          <p:nvPr/>
        </p:nvPicPr>
        <p:blipFill>
          <a:blip r:embed="rId1"/>
          <a:stretch/>
        </p:blipFill>
        <p:spPr>
          <a:xfrm>
            <a:off x="1909800" y="63360"/>
            <a:ext cx="53262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ww2-181"/>
          <p:cNvPicPr/>
          <p:nvPr/>
        </p:nvPicPr>
        <p:blipFill>
          <a:blip r:embed="rId1"/>
          <a:stretch/>
        </p:blipFill>
        <p:spPr>
          <a:xfrm>
            <a:off x="646200" y="63360"/>
            <a:ext cx="78516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adamar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ww2-182"/>
          <p:cNvPicPr/>
          <p:nvPr/>
        </p:nvPicPr>
        <p:blipFill>
          <a:blip r:embed="rId1"/>
          <a:stretch/>
        </p:blipFill>
        <p:spPr>
          <a:xfrm>
            <a:off x="81000" y="63360"/>
            <a:ext cx="89838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shmm.org/wlc/en/media_nm.php?MediaId=3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ww2-183"/>
          <p:cNvPicPr/>
          <p:nvPr/>
        </p:nvPicPr>
        <p:blipFill>
          <a:blip r:embed="rId1"/>
          <a:stretch/>
        </p:blipFill>
        <p:spPr>
          <a:xfrm>
            <a:off x="246240" y="63360"/>
            <a:ext cx="865152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einsatz2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insatz3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.  Death Marche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4" name="Picture 3" descr="scan0001"/>
          <p:cNvPicPr/>
          <p:nvPr/>
        </p:nvPicPr>
        <p:blipFill>
          <a:blip r:embed="rId1"/>
          <a:stretch/>
        </p:blipFill>
        <p:spPr>
          <a:xfrm>
            <a:off x="0" y="1017720"/>
            <a:ext cx="891540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A.  German Force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utzstaff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arted as Hitler’s bodygu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by Henrich Himm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esta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e Secret State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image 1"/>
          <p:cNvPicPr/>
          <p:nvPr/>
        </p:nvPicPr>
        <p:blipFill>
          <a:blip r:embed="rId1"/>
          <a:stretch/>
        </p:blipFill>
        <p:spPr>
          <a:xfrm>
            <a:off x="6781680" y="152280"/>
            <a:ext cx="221616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Heinrich Himmler"/>
          <p:cNvPicPr/>
          <p:nvPr/>
        </p:nvPicPr>
        <p:blipFill>
          <a:blip r:embed="rId2"/>
          <a:stretch/>
        </p:blipFill>
        <p:spPr>
          <a:xfrm>
            <a:off x="4648320" y="1143000"/>
            <a:ext cx="2046240" cy="281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File:Capturedgestapoagents.jpg"/>
          <p:cNvPicPr/>
          <p:nvPr/>
        </p:nvPicPr>
        <p:blipFill>
          <a:blip r:embed="rId3"/>
          <a:stretch/>
        </p:blipFill>
        <p:spPr>
          <a:xfrm>
            <a:off x="6629400" y="3343320"/>
            <a:ext cx="2514600" cy="2436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fb_01"/>
          <p:cNvPicPr/>
          <p:nvPr/>
        </p:nvPicPr>
        <p:blipFill>
          <a:blip r:embed="rId4"/>
          <a:stretch/>
        </p:blipFill>
        <p:spPr>
          <a:xfrm>
            <a:off x="4114800" y="4392720"/>
            <a:ext cx="2467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Gestapo controlled concentration camps; </a:t>
            </a:r>
            <a:br>
              <a:rPr sz="2800"/>
            </a:b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&lt;half of those who died here are shown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Picture 4" descr="File:Rows of bodies of dead inmates fill the yard of Lager Nordhausen, a Gestapo concentration camp.jpg"/>
          <p:cNvPicPr/>
          <p:nvPr/>
        </p:nvPicPr>
        <p:blipFill>
          <a:blip r:embed="rId1"/>
          <a:stretch/>
        </p:blipFill>
        <p:spPr>
          <a:xfrm>
            <a:off x="685800" y="1193760"/>
            <a:ext cx="72388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B.  Why the Jews?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616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remberg Law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in 1935, whic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pped Jews of their _____  rights and property if they tried to leave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ystal night (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  German ambassador to France killed by a German J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  Nazi troops destroyed Jewish __ &amp; 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   &gt;200 killed in on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86838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goebbels1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Sh04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.  Where can the Jews go?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(1933)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 probl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 on 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Origins Act of 1929; limited immigration to 150,000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, depression, refuge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these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D.  The Final Solution: Genocide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emned: Jews and any other seen as _______, i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  Political opponents – communists, soc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  Religio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  Hom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  Disabled; mentally, phys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in cold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ved ghet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labor/concentration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medic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7T13:49:2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